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4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CD3-43AD-49D7-AB57-2EBC1407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2EE-17A5-4351-82E8-94B79386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250-0AD5-425E-B5E5-82D64519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951-7524-499E-A45A-801C8EE1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867-6E7E-4004-B1A2-19378D01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28D-9EB3-49B8-AF09-0760293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14F-C5CE-47F6-B878-C34EA4DF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672-BA04-4349-B6E2-CAC20753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064-AB53-4E4D-A3AE-E6D8DDE8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675-7028-4865-88CC-E9141D1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DF5-F21F-4CEF-B65F-8C44DC4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E46-0E08-4724-9168-4DF47F9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3861-D871-4B07-A9AA-B4AE0279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50920" y="1268280"/>
            <a:ext cx="864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第二单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夏商周时期：早期国家与社会变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 夏商周的更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 Box 33" descr=""/>
          <p:cNvPicPr/>
          <p:nvPr/>
        </p:nvPicPr>
        <p:blipFill>
          <a:blip r:embed="rId1"/>
          <a:stretch/>
        </p:blipFill>
        <p:spPr>
          <a:xfrm>
            <a:off x="-47520" y="-11160"/>
            <a:ext cx="4394160" cy="5605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29"/>
          <p:cNvGrpSpPr/>
          <p:nvPr/>
        </p:nvGrpSpPr>
        <p:grpSpPr>
          <a:xfrm>
            <a:off x="890640" y="5003640"/>
            <a:ext cx="7362720" cy="503280"/>
            <a:chOff x="890640" y="5003640"/>
            <a:chExt cx="7362720" cy="503280"/>
          </a:xfrm>
        </p:grpSpPr>
        <p:sp>
          <p:nvSpPr>
            <p:cNvPr id="44" name="矩形 27"/>
            <p:cNvSpPr/>
            <p:nvPr/>
          </p:nvSpPr>
          <p:spPr>
            <a:xfrm>
              <a:off x="1619280" y="5084640"/>
              <a:ext cx="6553080" cy="287280"/>
            </a:xfrm>
            <a:prstGeom prst="rect">
              <a:avLst/>
            </a:prstGeom>
            <a:solidFill>
              <a:srgbClr val="2e6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18"/>
            <p:cNvGrpSpPr/>
            <p:nvPr/>
          </p:nvGrpSpPr>
          <p:grpSpPr>
            <a:xfrm>
              <a:off x="890640" y="5003640"/>
              <a:ext cx="1377000" cy="503280"/>
              <a:chOff x="890640" y="5003640"/>
              <a:chExt cx="1377000" cy="503280"/>
            </a:xfrm>
          </p:grpSpPr>
          <p:grpSp>
            <p:nvGrpSpPr>
              <p:cNvPr id="46" name="组合 24"/>
              <p:cNvGrpSpPr/>
              <p:nvPr/>
            </p:nvGrpSpPr>
            <p:grpSpPr>
              <a:xfrm>
                <a:off x="890640" y="5003640"/>
                <a:ext cx="1377000" cy="503280"/>
                <a:chOff x="890640" y="5003640"/>
                <a:chExt cx="1377000" cy="503280"/>
              </a:xfrm>
            </p:grpSpPr>
            <p:sp>
              <p:nvSpPr>
                <p:cNvPr id="47" name="矩形 25"/>
                <p:cNvSpPr/>
                <p:nvPr/>
              </p:nvSpPr>
              <p:spPr>
                <a:xfrm>
                  <a:off x="89064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矩形 26"/>
                <p:cNvSpPr/>
                <p:nvPr/>
              </p:nvSpPr>
              <p:spPr>
                <a:xfrm>
                  <a:off x="91908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" name="矩形 17"/>
              <p:cNvSpPr/>
              <p:nvPr/>
            </p:nvSpPr>
            <p:spPr>
              <a:xfrm>
                <a:off x="121464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导入新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组合 38"/>
            <p:cNvGrpSpPr/>
            <p:nvPr/>
          </p:nvGrpSpPr>
          <p:grpSpPr>
            <a:xfrm>
              <a:off x="2885760" y="5003640"/>
              <a:ext cx="1377000" cy="503280"/>
              <a:chOff x="2885760" y="5003640"/>
              <a:chExt cx="1377000" cy="503280"/>
            </a:xfrm>
          </p:grpSpPr>
          <p:grpSp>
            <p:nvGrpSpPr>
              <p:cNvPr id="51" name="组合 39"/>
              <p:cNvGrpSpPr/>
              <p:nvPr/>
            </p:nvGrpSpPr>
            <p:grpSpPr>
              <a:xfrm>
                <a:off x="2885760" y="5003640"/>
                <a:ext cx="1377000" cy="503280"/>
                <a:chOff x="2885760" y="5003640"/>
                <a:chExt cx="1377000" cy="503280"/>
              </a:xfrm>
            </p:grpSpPr>
            <p:sp>
              <p:nvSpPr>
                <p:cNvPr id="52" name="矩形 41"/>
                <p:cNvSpPr/>
                <p:nvPr/>
              </p:nvSpPr>
              <p:spPr>
                <a:xfrm>
                  <a:off x="288576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矩形 42"/>
                <p:cNvSpPr/>
                <p:nvPr/>
              </p:nvSpPr>
              <p:spPr>
                <a:xfrm>
                  <a:off x="291420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矩形 40"/>
              <p:cNvSpPr/>
              <p:nvPr/>
            </p:nvSpPr>
            <p:spPr>
              <a:xfrm>
                <a:off x="321912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新课探究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组合 43"/>
            <p:cNvGrpSpPr/>
            <p:nvPr/>
          </p:nvGrpSpPr>
          <p:grpSpPr>
            <a:xfrm>
              <a:off x="4880880" y="5003640"/>
              <a:ext cx="1377000" cy="503280"/>
              <a:chOff x="4880880" y="5003640"/>
              <a:chExt cx="1377000" cy="503280"/>
            </a:xfrm>
          </p:grpSpPr>
          <p:grpSp>
            <p:nvGrpSpPr>
              <p:cNvPr id="56" name="组合 44"/>
              <p:cNvGrpSpPr/>
              <p:nvPr/>
            </p:nvGrpSpPr>
            <p:grpSpPr>
              <a:xfrm>
                <a:off x="4880880" y="5003640"/>
                <a:ext cx="1377000" cy="503280"/>
                <a:chOff x="4880880" y="5003640"/>
                <a:chExt cx="1377000" cy="503280"/>
              </a:xfrm>
            </p:grpSpPr>
            <p:sp>
              <p:nvSpPr>
                <p:cNvPr id="57" name="矩形 46"/>
                <p:cNvSpPr/>
                <p:nvPr/>
              </p:nvSpPr>
              <p:spPr>
                <a:xfrm>
                  <a:off x="488088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矩形 47"/>
                <p:cNvSpPr/>
                <p:nvPr/>
              </p:nvSpPr>
              <p:spPr>
                <a:xfrm>
                  <a:off x="490932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矩形 45"/>
              <p:cNvSpPr/>
              <p:nvPr/>
            </p:nvSpPr>
            <p:spPr>
              <a:xfrm>
                <a:off x="521424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堂小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48"/>
            <p:cNvGrpSpPr/>
            <p:nvPr/>
          </p:nvGrpSpPr>
          <p:grpSpPr>
            <a:xfrm>
              <a:off x="6876360" y="5003640"/>
              <a:ext cx="1377000" cy="503280"/>
              <a:chOff x="6876360" y="5003640"/>
              <a:chExt cx="1377000" cy="503280"/>
            </a:xfrm>
          </p:grpSpPr>
          <p:grpSp>
            <p:nvGrpSpPr>
              <p:cNvPr id="61" name="组合 49"/>
              <p:cNvGrpSpPr/>
              <p:nvPr/>
            </p:nvGrpSpPr>
            <p:grpSpPr>
              <a:xfrm>
                <a:off x="6876360" y="5003640"/>
                <a:ext cx="1377000" cy="503280"/>
                <a:chOff x="6876360" y="5003640"/>
                <a:chExt cx="1377000" cy="503280"/>
              </a:xfrm>
            </p:grpSpPr>
            <p:sp>
              <p:nvSpPr>
                <p:cNvPr id="62" name="矩形 51"/>
                <p:cNvSpPr/>
                <p:nvPr/>
              </p:nvSpPr>
              <p:spPr>
                <a:xfrm>
                  <a:off x="6876360" y="5003640"/>
                  <a:ext cx="1377000" cy="503280"/>
                </a:xfrm>
                <a:prstGeom prst="rect">
                  <a:avLst/>
                </a:prstGeom>
                <a:solidFill>
                  <a:srgbClr val="2e6cb8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矩形 52"/>
                <p:cNvSpPr/>
                <p:nvPr/>
              </p:nvSpPr>
              <p:spPr>
                <a:xfrm>
                  <a:off x="6904800" y="5054400"/>
                  <a:ext cx="1320120" cy="401760"/>
                </a:xfrm>
                <a:prstGeom prst="rect">
                  <a:avLst/>
                </a:prstGeom>
                <a:solidFill>
                  <a:srgbClr val="ffffff">
                    <a:alpha val="8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矩形 50"/>
              <p:cNvSpPr/>
              <p:nvPr/>
            </p:nvSpPr>
            <p:spPr>
              <a:xfrm>
                <a:off x="7200720" y="5073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随堂训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二里头夏宫遗址"/>
          <p:cNvPicPr/>
          <p:nvPr/>
        </p:nvPicPr>
        <p:blipFill>
          <a:blip r:embed="rId1"/>
          <a:stretch/>
        </p:blipFill>
        <p:spPr>
          <a:xfrm>
            <a:off x="289080" y="596880"/>
            <a:ext cx="6291000" cy="318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05320" y="2770200"/>
            <a:ext cx="35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偃师二里头夏朝宫殿遗址复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99"/>
          <p:cNvSpPr/>
          <p:nvPr/>
        </p:nvSpPr>
        <p:spPr>
          <a:xfrm>
            <a:off x="289080" y="4205160"/>
            <a:ext cx="85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宫殿建筑群、平民生活区和墓葬的划分看反映了夏王朝的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阶级分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等级界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j"/>
          <p:cNvPicPr/>
          <p:nvPr/>
        </p:nvPicPr>
        <p:blipFill>
          <a:blip r:embed="rId1"/>
          <a:stretch/>
        </p:blipFill>
        <p:spPr>
          <a:xfrm>
            <a:off x="1252440" y="739800"/>
            <a:ext cx="3456000" cy="4716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707000" y="487368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桀把人当坐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9"/>
          <p:cNvSpPr/>
          <p:nvPr/>
        </p:nvSpPr>
        <p:spPr>
          <a:xfrm>
            <a:off x="250920" y="219852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汤伐夏，国号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六百载，至纣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197"/>
          <p:cNvSpPr/>
          <p:nvPr/>
        </p:nvSpPr>
        <p:spPr>
          <a:xfrm>
            <a:off x="972360" y="37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二：商汤灭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" descr="75F16AA6D9891D95A1CCB3CC41B9F46E"/>
          <p:cNvPicPr/>
          <p:nvPr/>
        </p:nvPicPr>
        <p:blipFill>
          <a:blip r:embed="rId1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4522680" y="1282680"/>
            <a:ext cx="1758960" cy="1581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5162400" y="210960"/>
            <a:ext cx="3733920" cy="914400"/>
          </a:xfrm>
          <a:prstGeom prst="cloudCallout">
            <a:avLst>
              <a:gd name="adj1" fmla="val -49990"/>
              <a:gd name="adj2" fmla="val 837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宁愿和他一起灭亡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Group 4" descr=""/>
          <p:cNvPicPr/>
          <p:nvPr/>
        </p:nvPicPr>
        <p:blipFill>
          <a:blip r:embed="rId2"/>
          <a:stretch/>
        </p:blipFill>
        <p:spPr>
          <a:xfrm>
            <a:off x="115920" y="2225520"/>
            <a:ext cx="4737240" cy="2138400"/>
          </a:xfrm>
          <a:prstGeom prst="rect">
            <a:avLst/>
          </a:prstGeom>
          <a:ln w="0">
            <a:noFill/>
          </a:ln>
        </p:spPr>
      </p:pic>
      <p:pic>
        <p:nvPicPr>
          <p:cNvPr id="114" name="Group 9" descr=""/>
          <p:cNvPicPr/>
          <p:nvPr/>
        </p:nvPicPr>
        <p:blipFill>
          <a:blip r:embed="rId3"/>
          <a:stretch/>
        </p:blipFill>
        <p:spPr>
          <a:xfrm>
            <a:off x="3505320" y="4657680"/>
            <a:ext cx="50054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12"/>
          <p:cNvGrpSpPr/>
          <p:nvPr/>
        </p:nvGrpSpPr>
        <p:grpSpPr>
          <a:xfrm>
            <a:off x="4254480" y="3249720"/>
            <a:ext cx="2593080" cy="1384200"/>
            <a:chOff x="4254480" y="3249720"/>
            <a:chExt cx="2593080" cy="1384200"/>
          </a:xfrm>
        </p:grpSpPr>
        <p:sp>
          <p:nvSpPr>
            <p:cNvPr id="116" name="Line 13"/>
            <p:cNvSpPr/>
            <p:nvPr/>
          </p:nvSpPr>
          <p:spPr>
            <a:xfrm flipH="1" flipV="1">
              <a:off x="4254480" y="3763440"/>
              <a:ext cx="2100240" cy="8704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 rot="1320000">
              <a:off x="4924800" y="3571920"/>
              <a:ext cx="1858320" cy="7038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公元前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60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进攻夏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847800" y="4421160"/>
            <a:ext cx="2158920" cy="1661760"/>
            <a:chOff x="847800" y="4421160"/>
            <a:chExt cx="2158920" cy="1661760"/>
          </a:xfrm>
        </p:grpSpPr>
        <p:sp>
          <p:nvSpPr>
            <p:cNvPr id="119" name="AutoShape 19"/>
            <p:cNvSpPr/>
            <p:nvPr/>
          </p:nvSpPr>
          <p:spPr>
            <a:xfrm>
              <a:off x="1560600" y="4421160"/>
              <a:ext cx="687960" cy="855000"/>
            </a:xfrm>
            <a:prstGeom prst="downArrow">
              <a:avLst>
                <a:gd name="adj1" fmla="val 50000"/>
                <a:gd name="adj2" fmla="val 31024"/>
              </a:avLst>
            </a:prstGeom>
            <a:solidFill>
              <a:srgbClr val="f2dcdb"/>
            </a:solidFill>
            <a:ln w="324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847800" y="5349960"/>
              <a:ext cx="2158920" cy="7329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商朝建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Object 21" descr=""/>
          <p:cNvPicPr/>
          <p:nvPr/>
        </p:nvPicPr>
        <p:blipFill>
          <a:blip r:embed="rId4"/>
          <a:stretch/>
        </p:blipFill>
        <p:spPr>
          <a:xfrm>
            <a:off x="6114960" y="2076480"/>
            <a:ext cx="1295640" cy="1163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2"/>
          <p:cNvSpPr/>
          <p:nvPr/>
        </p:nvSpPr>
        <p:spPr>
          <a:xfrm>
            <a:off x="6472080" y="1125360"/>
            <a:ext cx="2305080" cy="936720"/>
          </a:xfrm>
          <a:prstGeom prst="cloudCallout">
            <a:avLst>
              <a:gd name="adj1" fmla="val -65990"/>
              <a:gd name="adj2" fmla="val 354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这太阳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候灭亡啊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3" descr=""/>
          <p:cNvPicPr/>
          <p:nvPr/>
        </p:nvPicPr>
        <p:blipFill>
          <a:blip r:embed="rId5"/>
          <a:stretch/>
        </p:blipFill>
        <p:spPr>
          <a:xfrm>
            <a:off x="7316640" y="2270160"/>
            <a:ext cx="1079640" cy="96984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3"/>
          <p:cNvSpPr/>
          <p:nvPr/>
        </p:nvSpPr>
        <p:spPr>
          <a:xfrm>
            <a:off x="1569960" y="2567160"/>
            <a:ext cx="25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夏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残暴荒淫无度百姓怨恨到了极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884160" y="436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夏被推翻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27" name="矩形 2"/>
          <p:cNvSpPr/>
          <p:nvPr/>
        </p:nvSpPr>
        <p:spPr>
          <a:xfrm>
            <a:off x="304920" y="22860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对比夏朝的灭亡，分析商朝很快强大起来的原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9"/>
          <p:cNvSpPr/>
          <p:nvPr/>
        </p:nvSpPr>
        <p:spPr>
          <a:xfrm>
            <a:off x="971640" y="3876840"/>
            <a:ext cx="71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用贤才，发展农业、手工业和商业，使经济得到发展，人民生活相对安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1430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自主归纳商汤灭夏、建立商朝的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时间、人物、都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31" name="矩形 2"/>
          <p:cNvSpPr/>
          <p:nvPr/>
        </p:nvSpPr>
        <p:spPr>
          <a:xfrm>
            <a:off x="257040" y="1452600"/>
            <a:ext cx="86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迁都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9"/>
          <p:cNvSpPr/>
          <p:nvPr/>
        </p:nvSpPr>
        <p:spPr>
          <a:xfrm>
            <a:off x="838080" y="3276720"/>
            <a:ext cx="71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统治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20150707222327946"/>
          <p:cNvPicPr/>
          <p:nvPr/>
        </p:nvPicPr>
        <p:blipFill>
          <a:blip r:embed="rId1"/>
          <a:srcRect l="0" t="0" r="0" b="6529"/>
          <a:stretch/>
        </p:blipFill>
        <p:spPr>
          <a:xfrm>
            <a:off x="1533600" y="458640"/>
            <a:ext cx="4371840" cy="32688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"/>
          <p:cNvSpPr/>
          <p:nvPr/>
        </p:nvSpPr>
        <p:spPr>
          <a:xfrm>
            <a:off x="254160" y="4129200"/>
            <a:ext cx="861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该电视剧讲述了商末时期，由于纣王残暴无道，宠信妖女妲己，苦害生灵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周文王顺应天时，招兵买马，聘请姜子牙出山讨伐纣王，最终推翻商王朝的神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15520" y="849240"/>
            <a:ext cx="7290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《封神榜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t019de394af4a6716dd"/>
          <p:cNvPicPr/>
          <p:nvPr/>
        </p:nvPicPr>
        <p:blipFill>
          <a:blip r:embed="rId2"/>
          <a:srcRect l="0" t="0" r="0" b="13557"/>
          <a:stretch/>
        </p:blipFill>
        <p:spPr>
          <a:xfrm>
            <a:off x="6076800" y="458640"/>
            <a:ext cx="2505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99"/>
          <p:cNvSpPr/>
          <p:nvPr/>
        </p:nvSpPr>
        <p:spPr>
          <a:xfrm>
            <a:off x="250920" y="205596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周武王，始诛纣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八百载，最长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197"/>
          <p:cNvSpPr/>
          <p:nvPr/>
        </p:nvSpPr>
        <p:spPr>
          <a:xfrm>
            <a:off x="972360" y="37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三：武王伐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75F16AA6D9891D95A1CCB3CC41B9F46E"/>
          <p:cNvPicPr/>
          <p:nvPr/>
        </p:nvPicPr>
        <p:blipFill>
          <a:blip r:embed="rId1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ls006f"/>
          <p:cNvPicPr/>
          <p:nvPr/>
        </p:nvPicPr>
        <p:blipFill>
          <a:blip r:embed="rId1"/>
          <a:stretch/>
        </p:blipFill>
        <p:spPr>
          <a:xfrm>
            <a:off x="1679400" y="2709720"/>
            <a:ext cx="5785200" cy="3537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990720" y="685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49320" y="136512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49320" y="204156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都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7400" y="3276720"/>
            <a:ext cx="66780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牧野之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5360" y="69516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周武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371600"/>
            <a:ext cx="27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公元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4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05740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镐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49" name="矩形 2"/>
          <p:cNvSpPr/>
          <p:nvPr/>
        </p:nvSpPr>
        <p:spPr>
          <a:xfrm>
            <a:off x="257040" y="1452600"/>
            <a:ext cx="86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商汤灭夏和武王伐纣为什么会取得胜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99"/>
          <p:cNvSpPr/>
          <p:nvPr/>
        </p:nvSpPr>
        <p:spPr>
          <a:xfrm>
            <a:off x="993600" y="2270160"/>
            <a:ext cx="715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前朝暴政引起民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商汤、武王顺应时势、深得民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重用贤人，联合周边小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79640" y="5237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隶书"/>
                <a:ea typeface="华文隶书"/>
              </a:rPr>
              <a:t>历史教训：“得民心者得天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4014720" y="4419720"/>
            <a:ext cx="792360" cy="672840"/>
          </a:xfrm>
          <a:prstGeom prst="downArrow">
            <a:avLst>
              <a:gd name="adj1" fmla="val 50000"/>
              <a:gd name="adj2" fmla="val 34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66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导入新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矩形 8"/>
          <p:cNvSpPr/>
          <p:nvPr/>
        </p:nvSpPr>
        <p:spPr>
          <a:xfrm>
            <a:off x="270000" y="1176480"/>
            <a:ext cx="86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三字经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有禹，商有汤。周文王，称三王。夏传子，家天下。四百载，迁夏社。汤伐夏，国号商。六百载，至纣亡。周武王，始诛纣。八百载，最长久。周辙东，王纲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" descr="75F16AA6D9891D95A1CCB3CC41B9F46E"/>
          <p:cNvPicPr/>
          <p:nvPr/>
        </p:nvPicPr>
        <p:blipFill>
          <a:blip r:embed="rId2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7197"/>
          <p:cNvSpPr/>
          <p:nvPr/>
        </p:nvSpPr>
        <p:spPr>
          <a:xfrm>
            <a:off x="1114560" y="3762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四：西周的分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00"/>
          <p:cNvSpPr/>
          <p:nvPr/>
        </p:nvSpPr>
        <p:spPr>
          <a:xfrm>
            <a:off x="260280" y="4381560"/>
            <a:ext cx="86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）这句话表明在奴隶、封建社会，天下是君王的，国家为君王的私有财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）本质上和“家天下”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250920" y="1265400"/>
            <a:ext cx="86184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材料展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普天之下，莫非王土；率土之滨，莫非王臣。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57040" y="3049560"/>
            <a:ext cx="86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诗经》这段话的意思是什么？与“家天下”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xizhou"/>
          <p:cNvPicPr/>
          <p:nvPr/>
        </p:nvPicPr>
        <p:blipFill>
          <a:blip r:embed="rId1"/>
          <a:stretch/>
        </p:blipFill>
        <p:spPr>
          <a:xfrm>
            <a:off x="1881360" y="239760"/>
            <a:ext cx="5381280" cy="403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244440" y="4576680"/>
            <a:ext cx="862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假如你是统治者，面对广袤的疆域，在“家天下”的社会，你会采取什么措施来巩固广阔的疆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340000" y="406440"/>
            <a:ext cx="4848120" cy="590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308720" y="9810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380360" y="2205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诸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308720" y="3141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卿大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451640" y="4006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380360" y="4797360"/>
            <a:ext cx="12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451640" y="544500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奴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1187280" y="620640"/>
            <a:ext cx="648000" cy="3743280"/>
          </a:xfrm>
          <a:custGeom>
            <a:avLst/>
            <a:gdLst>
              <a:gd name="textAreaLeft" fmla="*/ 414000 w 648000"/>
              <a:gd name="textAreaRight" fmla="*/ 648000 w 648000"/>
              <a:gd name="textAreaTop" fmla="*/ 97200 h 3743280"/>
              <a:gd name="textAreaBottom" fmla="*/ 364608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187280" y="4726080"/>
            <a:ext cx="648000" cy="1224000"/>
          </a:xfrm>
          <a:custGeom>
            <a:avLst/>
            <a:gdLst>
              <a:gd name="textAreaLeft" fmla="*/ 414000 w 648000"/>
              <a:gd name="textAreaRight" fmla="*/ 648000 w 648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-90360" y="1341360"/>
            <a:ext cx="12776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-149040" y="4033800"/>
            <a:ext cx="127764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2004112793216790"/>
          <p:cNvPicPr/>
          <p:nvPr/>
        </p:nvPicPr>
        <p:blipFill>
          <a:blip r:embed="rId1"/>
          <a:stretch/>
        </p:blipFill>
        <p:spPr>
          <a:xfrm>
            <a:off x="1111320" y="793800"/>
            <a:ext cx="7127640" cy="534672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00"/>
          <p:cNvSpPr/>
          <p:nvPr/>
        </p:nvSpPr>
        <p:spPr>
          <a:xfrm>
            <a:off x="2530440" y="6286680"/>
            <a:ext cx="50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周初分封诸侯国分布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173" name="矩形 2"/>
          <p:cNvSpPr/>
          <p:nvPr/>
        </p:nvSpPr>
        <p:spPr>
          <a:xfrm>
            <a:off x="304920" y="2286000"/>
            <a:ext cx="86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的依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的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19112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权利和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897280" y="1635120"/>
            <a:ext cx="60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周王进献贡物，服从周王调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304920" y="1295280"/>
            <a:ext cx="2570040" cy="1224000"/>
            <a:chOff x="304920" y="1295280"/>
            <a:chExt cx="2570040" cy="1224000"/>
          </a:xfrm>
        </p:grpSpPr>
        <p:sp>
          <p:nvSpPr>
            <p:cNvPr id="178" name="虚尾箭头 1"/>
            <p:cNvSpPr/>
            <p:nvPr/>
          </p:nvSpPr>
          <p:spPr>
            <a:xfrm>
              <a:off x="304920" y="1295280"/>
              <a:ext cx="2570040" cy="122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2501"/>
                  </a:moveTo>
                  <a:lnTo>
                    <a:pt x="148" y="2501"/>
                  </a:lnTo>
                  <a:lnTo>
                    <a:pt x="148" y="7499"/>
                  </a:lnTo>
                  <a:lnTo>
                    <a:pt x="0" y="7499"/>
                  </a:lnTo>
                  <a:lnTo>
                    <a:pt x="0" y="2501"/>
                  </a:lnTo>
                  <a:close/>
                  <a:moveTo>
                    <a:pt x="297" y="2501"/>
                  </a:moveTo>
                  <a:lnTo>
                    <a:pt x="596" y="2501"/>
                  </a:lnTo>
                  <a:lnTo>
                    <a:pt x="596" y="7499"/>
                  </a:lnTo>
                  <a:lnTo>
                    <a:pt x="297" y="7499"/>
                  </a:lnTo>
                  <a:lnTo>
                    <a:pt x="297" y="2501"/>
                  </a:lnTo>
                  <a:close/>
                  <a:moveTo>
                    <a:pt x="744" y="2501"/>
                  </a:moveTo>
                  <a:lnTo>
                    <a:pt x="7620" y="2501"/>
                  </a:lnTo>
                  <a:lnTo>
                    <a:pt x="7620" y="0"/>
                  </a:lnTo>
                  <a:lnTo>
                    <a:pt x="10000" y="5003"/>
                  </a:lnTo>
                  <a:lnTo>
                    <a:pt x="7620" y="10000"/>
                  </a:lnTo>
                  <a:lnTo>
                    <a:pt x="7620" y="7499"/>
                  </a:lnTo>
                  <a:lnTo>
                    <a:pt x="744" y="7499"/>
                  </a:lnTo>
                  <a:lnTo>
                    <a:pt x="744" y="2501"/>
                  </a:lnTo>
                  <a:close/>
                </a:path>
              </a:pathLst>
            </a:custGeom>
            <a:solidFill>
              <a:srgbClr val="f2dcdb"/>
            </a:solidFill>
            <a:ln w="3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561600" y="1584000"/>
              <a:ext cx="21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诸侯义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4"/>
          <p:cNvGrpSpPr/>
          <p:nvPr/>
        </p:nvGrpSpPr>
        <p:grpSpPr>
          <a:xfrm>
            <a:off x="304920" y="3657600"/>
            <a:ext cx="2571480" cy="1224000"/>
            <a:chOff x="304920" y="3657600"/>
            <a:chExt cx="2571480" cy="1224000"/>
          </a:xfrm>
        </p:grpSpPr>
        <p:sp>
          <p:nvSpPr>
            <p:cNvPr id="181" name="虚尾箭头 5"/>
            <p:cNvSpPr/>
            <p:nvPr/>
          </p:nvSpPr>
          <p:spPr>
            <a:xfrm>
              <a:off x="304920" y="3657600"/>
              <a:ext cx="2571480" cy="1224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2501"/>
                  </a:moveTo>
                  <a:lnTo>
                    <a:pt x="148" y="2501"/>
                  </a:lnTo>
                  <a:lnTo>
                    <a:pt x="148" y="7499"/>
                  </a:lnTo>
                  <a:lnTo>
                    <a:pt x="0" y="7499"/>
                  </a:lnTo>
                  <a:lnTo>
                    <a:pt x="0" y="2501"/>
                  </a:lnTo>
                  <a:close/>
                  <a:moveTo>
                    <a:pt x="297" y="2501"/>
                  </a:moveTo>
                  <a:lnTo>
                    <a:pt x="596" y="2501"/>
                  </a:lnTo>
                  <a:lnTo>
                    <a:pt x="596" y="7499"/>
                  </a:lnTo>
                  <a:lnTo>
                    <a:pt x="297" y="7499"/>
                  </a:lnTo>
                  <a:lnTo>
                    <a:pt x="297" y="2501"/>
                  </a:lnTo>
                  <a:close/>
                  <a:moveTo>
                    <a:pt x="744" y="2501"/>
                  </a:moveTo>
                  <a:lnTo>
                    <a:pt x="7620" y="2501"/>
                  </a:lnTo>
                  <a:lnTo>
                    <a:pt x="7620" y="0"/>
                  </a:lnTo>
                  <a:lnTo>
                    <a:pt x="10000" y="5003"/>
                  </a:lnTo>
                  <a:lnTo>
                    <a:pt x="7620" y="10000"/>
                  </a:lnTo>
                  <a:lnTo>
                    <a:pt x="7620" y="7499"/>
                  </a:lnTo>
                  <a:lnTo>
                    <a:pt x="744" y="7499"/>
                  </a:lnTo>
                  <a:lnTo>
                    <a:pt x="744" y="2501"/>
                  </a:lnTo>
                  <a:close/>
                </a:path>
              </a:pathLst>
            </a:custGeom>
            <a:solidFill>
              <a:srgbClr val="f2dcdb"/>
            </a:solidFill>
            <a:ln w="32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504360" y="394632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诸侯权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"/>
          <p:cNvSpPr/>
          <p:nvPr/>
        </p:nvSpPr>
        <p:spPr>
          <a:xfrm>
            <a:off x="2744640" y="3965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土地和人民的权力，建立诸侯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52056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制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62080" y="1008000"/>
            <a:ext cx="863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受封者可以在自己的封地内进行再分封，从而确立了周王朝金字塔式的社会等级制度，史称“分封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2360" y="4570560"/>
            <a:ext cx="8631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周王朝对地方的控制，同时稳定政局，扩大统治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79440" y="380376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分封制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411280" y="260280"/>
            <a:ext cx="4280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夏商周的更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57080" y="1484280"/>
          <a:ext cx="7548480" cy="4871880"/>
        </p:xfrm>
        <a:graphic>
          <a:graphicData uri="http://schemas.openxmlformats.org/drawingml/2006/table">
            <a:tbl>
              <a:tblPr/>
              <a:tblGrid>
                <a:gridCol w="685800"/>
                <a:gridCol w="2398680"/>
                <a:gridCol w="1576440"/>
                <a:gridCol w="1144440"/>
                <a:gridCol w="17431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朝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立时间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立者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都城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暴君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7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阳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西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约公元前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4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武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镐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厉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507960" y="1916280"/>
          <a:ext cx="8096400" cy="3663720"/>
        </p:xfrm>
        <a:graphic>
          <a:graphicData uri="http://schemas.openxmlformats.org/drawingml/2006/table">
            <a:tbl>
              <a:tblPr/>
              <a:tblGrid>
                <a:gridCol w="2347920"/>
                <a:gridCol w="3524400"/>
                <a:gridCol w="2224080"/>
              </a:tblGrid>
              <a:tr h="55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年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事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要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07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夏朝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6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汤灭夏，商朝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商王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约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盘庚迁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商王盘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4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牧野之战，商朝灭亡，西周建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周武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前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1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周灭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周幽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40"/>
          <p:cNvSpPr/>
          <p:nvPr/>
        </p:nvSpPr>
        <p:spPr>
          <a:xfrm>
            <a:off x="1116000" y="782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夏、商、西周大事年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193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AutoShape 5"/>
          <p:cNvSpPr/>
          <p:nvPr/>
        </p:nvSpPr>
        <p:spPr>
          <a:xfrm>
            <a:off x="1424160" y="1380960"/>
            <a:ext cx="377640" cy="4211640"/>
          </a:xfrm>
          <a:custGeom>
            <a:avLst/>
            <a:gdLst>
              <a:gd name="textAreaLeft" fmla="*/ 241200 w 377640"/>
              <a:gd name="textAreaRight" fmla="*/ 378000 w 377640"/>
              <a:gd name="textAreaTop" fmla="*/ 46800 h 4211640"/>
              <a:gd name="textAreaBottom" fmla="*/ 4164840 h 42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2"/>
                </a:cubicBezTo>
                <a:lnTo>
                  <a:pt x="10800" y="10028"/>
                </a:lnTo>
                <a:cubicBezTo>
                  <a:pt x="10800" y="10414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2"/>
                </a:cubicBezTo>
                <a:lnTo>
                  <a:pt x="10800" y="20828"/>
                </a:lnTo>
                <a:cubicBezTo>
                  <a:pt x="10800" y="2121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64960" y="2100240"/>
            <a:ext cx="10940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早期国家的产生和发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7893"/>
          <p:cNvSpPr/>
          <p:nvPr/>
        </p:nvSpPr>
        <p:spPr>
          <a:xfrm>
            <a:off x="1924200" y="1257480"/>
            <a:ext cx="203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朝建立与“家天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7893"/>
          <p:cNvSpPr/>
          <p:nvPr/>
        </p:nvSpPr>
        <p:spPr>
          <a:xfrm>
            <a:off x="1924200" y="3011400"/>
            <a:ext cx="17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汤灭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693960" y="2610000"/>
            <a:ext cx="363600" cy="1396800"/>
          </a:xfrm>
          <a:custGeom>
            <a:avLst/>
            <a:gdLst>
              <a:gd name="textAreaLeft" fmla="*/ 232200 w 363600"/>
              <a:gd name="textAreaRight" fmla="*/ 363960 w 363600"/>
              <a:gd name="textAreaTop" fmla="*/ 45720 h 1396800"/>
              <a:gd name="textAreaBottom" fmla="*/ 135108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3"/>
                  <a:pt x="10800" y="2265"/>
                </a:cubicBezTo>
                <a:lnTo>
                  <a:pt x="10800" y="8535"/>
                </a:lnTo>
                <a:cubicBezTo>
                  <a:pt x="10800" y="9668"/>
                  <a:pt x="5400" y="10800"/>
                  <a:pt x="0" y="10800"/>
                </a:cubicBezTo>
                <a:cubicBezTo>
                  <a:pt x="5400" y="10800"/>
                  <a:pt x="10800" y="11933"/>
                  <a:pt x="10800" y="13065"/>
                </a:cubicBezTo>
                <a:lnTo>
                  <a:pt x="10800" y="19335"/>
                </a:lnTo>
                <a:cubicBezTo>
                  <a:pt x="10800" y="2046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7897"/>
          <p:cNvSpPr/>
          <p:nvPr/>
        </p:nvSpPr>
        <p:spPr>
          <a:xfrm>
            <a:off x="1924200" y="4192560"/>
            <a:ext cx="40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武王伐纣，西周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7897"/>
          <p:cNvSpPr/>
          <p:nvPr/>
        </p:nvSpPr>
        <p:spPr>
          <a:xfrm>
            <a:off x="4057560" y="272880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汤建立夏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7897"/>
          <p:cNvSpPr/>
          <p:nvPr/>
        </p:nvSpPr>
        <p:spPr>
          <a:xfrm>
            <a:off x="4057560" y="333684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纣的残暴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7897"/>
          <p:cNvSpPr/>
          <p:nvPr/>
        </p:nvSpPr>
        <p:spPr>
          <a:xfrm>
            <a:off x="1924200" y="4799160"/>
            <a:ext cx="69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周的分封制：控制地方，稳定政局，扩大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71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学习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5"/>
          <p:cNvSpPr/>
          <p:nvPr/>
        </p:nvSpPr>
        <p:spPr>
          <a:xfrm>
            <a:off x="250920" y="16444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夏、商、西周三代更替的基本史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西周分封制的内容和作用，初步理清历史发展线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205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文本框 56321"/>
          <p:cNvSpPr/>
          <p:nvPr/>
        </p:nvSpPr>
        <p:spPr>
          <a:xfrm>
            <a:off x="260280" y="1268280"/>
            <a:ext cx="86328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我国历史上第一个有出土文字证实的王朝是                                （　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夏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商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西周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秦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652320" y="1514520"/>
            <a:ext cx="76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ff"/>
                </a:solidFill>
                <a:latin typeface="宋体"/>
              </a:rPr>
              <a:t>A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56321"/>
          <p:cNvSpPr/>
          <p:nvPr/>
        </p:nvSpPr>
        <p:spPr>
          <a:xfrm>
            <a:off x="260280" y="1268280"/>
            <a:ext cx="86328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周武王的军队与商军主力展开决战的地点是                                （　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阳城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镐京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洛邑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．牧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716040" y="1581120"/>
            <a:ext cx="76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sz="60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"/>
          <p:cNvGrpSpPr/>
          <p:nvPr/>
        </p:nvGrpSpPr>
        <p:grpSpPr>
          <a:xfrm>
            <a:off x="6480" y="15840"/>
            <a:ext cx="1295280" cy="444600"/>
            <a:chOff x="6480" y="15840"/>
            <a:chExt cx="1295280" cy="444600"/>
          </a:xfrm>
        </p:grpSpPr>
        <p:sp>
          <p:nvSpPr>
            <p:cNvPr id="75" name="文本框 4103"/>
            <p:cNvSpPr/>
            <p:nvPr/>
          </p:nvSpPr>
          <p:spPr>
            <a:xfrm>
              <a:off x="6480" y="15840"/>
              <a:ext cx="1295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e6cb8"/>
                  </a:solidFill>
                  <a:latin typeface="华文行楷"/>
                  <a:ea typeface="华文行楷"/>
                </a:rPr>
                <a:t>新课探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3" descr="C:\Users\Administrator\Desktop\Redocn_2013102516062741.jpg"/>
            <p:cNvPicPr/>
            <p:nvPr/>
          </p:nvPicPr>
          <p:blipFill>
            <a:blip r:embed="rId1"/>
            <a:srcRect l="72501" t="2816" r="10250" b="94371"/>
            <a:stretch/>
          </p:blipFill>
          <p:spPr>
            <a:xfrm>
              <a:off x="58680" y="320760"/>
              <a:ext cx="109548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矩形 7197"/>
          <p:cNvSpPr/>
          <p:nvPr/>
        </p:nvSpPr>
        <p:spPr>
          <a:xfrm>
            <a:off x="2618280" y="58248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目标导学一：夏朝的建立与“家天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9"/>
          <p:cNvSpPr/>
          <p:nvPr/>
        </p:nvSpPr>
        <p:spPr>
          <a:xfrm>
            <a:off x="250920" y="2414520"/>
            <a:ext cx="862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夏传子，家天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隶书"/>
                <a:ea typeface="华文隶书"/>
              </a:rPr>
              <a:t>四百载，迁夏社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75F16AA6D9891D95A1CCB3CC41B9F46E"/>
          <p:cNvPicPr/>
          <p:nvPr/>
        </p:nvPicPr>
        <p:blipFill>
          <a:blip r:embed="rId2"/>
          <a:stretch/>
        </p:blipFill>
        <p:spPr>
          <a:xfrm>
            <a:off x="6959520" y="4743360"/>
            <a:ext cx="16909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260280" y="3581280"/>
            <a:ext cx="861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了解归纳夏朝的建立情况（时间、人物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中心地区和都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夏朝的地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统治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3"/>
          <p:cNvGrpSpPr/>
          <p:nvPr/>
        </p:nvGrpSpPr>
        <p:grpSpPr>
          <a:xfrm>
            <a:off x="1413000" y="380880"/>
            <a:ext cx="6318000" cy="3160080"/>
            <a:chOff x="1413000" y="380880"/>
            <a:chExt cx="6318000" cy="3160080"/>
          </a:xfrm>
        </p:grpSpPr>
        <p:sp>
          <p:nvSpPr>
            <p:cNvPr id="82" name="文本框 1"/>
            <p:cNvSpPr/>
            <p:nvPr/>
          </p:nvSpPr>
          <p:spPr>
            <a:xfrm>
              <a:off x="2848320" y="2959560"/>
              <a:ext cx="344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夏朝宫殿复原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2" descr="2a3c0001dbdb990b69c9"/>
            <p:cNvPicPr/>
            <p:nvPr/>
          </p:nvPicPr>
          <p:blipFill>
            <a:blip r:embed="rId1"/>
            <a:stretch/>
          </p:blipFill>
          <p:spPr>
            <a:xfrm>
              <a:off x="1413000" y="380880"/>
              <a:ext cx="6318000" cy="253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夏朝形势图"/>
          <p:cNvPicPr/>
          <p:nvPr/>
        </p:nvPicPr>
        <p:blipFill>
          <a:blip r:embed="rId1"/>
          <a:stretch/>
        </p:blipFill>
        <p:spPr>
          <a:xfrm>
            <a:off x="2340000" y="477720"/>
            <a:ext cx="4464000" cy="4538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234720" y="552600"/>
            <a:ext cx="12776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都城：阳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63640" y="4968720"/>
            <a:ext cx="5616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统治中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山西南部、河南中西部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p0.so.qhmsg.com/bdr/_240_/t011b36affb43108bea.jpg"/>
          <p:cNvPicPr/>
          <p:nvPr/>
        </p:nvPicPr>
        <p:blipFill>
          <a:blip r:embed="rId1"/>
          <a:srcRect l="5641" t="9449" r="11612" b="14961"/>
          <a:stretch/>
        </p:blipFill>
        <p:spPr>
          <a:xfrm>
            <a:off x="257040" y="333360"/>
            <a:ext cx="138132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257040" y="1811160"/>
            <a:ext cx="862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禹是通过禅让制成为部落首领，那么在夏朝建立后，有没有继续通过禅让制选出下一任君王呢？三字经中的“夏传子，家天下”这句话又是什么意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68200" y="853920"/>
            <a:ext cx="3419640" cy="5108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441680" y="84132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死后，启继承父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246720" y="2198520"/>
            <a:ext cx="330120" cy="562320"/>
          </a:xfrm>
          <a:prstGeom prst="downArrow">
            <a:avLst>
              <a:gd name="adj1" fmla="val 50000"/>
              <a:gd name="adj2" fmla="val 549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17840" y="4883040"/>
            <a:ext cx="41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天下”变成“家天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246720" y="3927600"/>
            <a:ext cx="330120" cy="663480"/>
          </a:xfrm>
          <a:prstGeom prst="downArrow">
            <a:avLst>
              <a:gd name="adj1" fmla="val 50000"/>
              <a:gd name="adj2" fmla="val 648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422600" y="305280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世袭制代替了禅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99"/>
          <p:cNvSpPr/>
          <p:nvPr/>
        </p:nvSpPr>
        <p:spPr>
          <a:xfrm>
            <a:off x="236520" y="7952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家天下”的“家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37960" y="1790640"/>
            <a:ext cx="86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帝王把国家政权据为己有，把国家当作一家的私产，世代相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033880" y="46386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家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27320" y="4638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889440" y="492912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033880" y="38149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世袭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27320" y="381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禅让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889440" y="410364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8-09-10T03:33:55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9</vt:lpwstr>
  </property>
  <property fmtid="{D5CDD505-2E9C-101B-9397-08002B2CF9AE}" pid="3" name="Version">
    <vt:r8>1</vt:r8>
  </property>
</Properties>
</file>